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gif" ContentType="image/gif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6D9-1449-4FFC-B7CE-85CCDA5C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324-67EA-4F6E-8B00-E41CBFEB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048-898F-4250-AF19-27767580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6263-DD25-42BC-9A97-AB0CF30E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9F3EE-8387-4286-9654-E3AA2D31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3C975-96E6-4FCF-B61D-D3E3017F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D9EA4-0554-43F9-8C9A-22E3656D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CD803-E290-4268-B6DB-A980A04F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C078F-B61F-481C-BF9A-EB2ECAE3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FD19B-5061-4669-BF25-75FF4320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29175-8037-42BA-B5AE-9D8C438F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ECB4-A5D0-4578-AFF9-E59FCAB4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E8474-5194-4A8C-B355-65166D71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72F92-00A6-4C2B-8354-2B71DAFF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1A999-0752-4399-8977-6C3078FC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12441-0616-46D0-BB36-9A042B92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09010-6597-4ED8-9A05-76BDE619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693-C9A6-45F5-852A-CB2654F9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CA4-213E-4E82-B206-67789A74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3C7-4691-41DB-884D-AEA19F75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2B2-0701-4CEB-80F4-23A73C12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888-F78C-4521-B3DD-2CB1FA3F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F2C-D362-4771-9F1C-1B06D4E7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EE2-A6E0-4ECB-BE76-BFAD83BD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13CF-5065-4F5A-A85D-6AF6F2308E1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330B-B04A-401B-832A-173860D9E77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e3e3ff"/>
                </a:solidFill>
                <a:latin typeface="Arial"/>
              </a:rPr>
              <a:t>Polic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5E is learning about the Police and want to tell you about the Police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227640" y="765000"/>
            <a:ext cx="2687760" cy="2471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1602000" cy="29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Equip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1. There are lots of police equipment like hand cuff, pepper spray, baton, hand cuff key, stab resistant body armour also known as S.R.B.A. and the last one, pocket kn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164360" y="3716280"/>
            <a:ext cx="1728720" cy="1125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164360" y="4941720"/>
            <a:ext cx="1800360" cy="1352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924360" y="3716280"/>
            <a:ext cx="1535040" cy="1535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195640" y="4076640"/>
            <a:ext cx="1671480" cy="1743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187280" y="4076640"/>
            <a:ext cx="702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Dog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2. Police dogs are German Shepherd, they have a great sense of smell that can track people down.  If they get someone they have a toy for a award.  They are ready for action and ready to figh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20000" y="3789360"/>
            <a:ext cx="1922400" cy="2243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1490760" cy="1700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419640" y="4292640"/>
            <a:ext cx="1114200" cy="1600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332000" y="4149720"/>
            <a:ext cx="11001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Uni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3.Police uniform are real important. When they go to a meeting they have to wear a nice uniform. When there on the go they have to put there uniform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724360" y="3933720"/>
            <a:ext cx="2459160" cy="177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0920" y="4005360"/>
            <a:ext cx="19684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Job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4. There are lots of jobs like, dog handler, dispatcher, traffic officers, crime scene unit, search and rescue, community constable, youth aid officers and youth aid educ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1341360" cy="1363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0" y="4292640"/>
            <a:ext cx="1728720" cy="1325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484360" y="4221000"/>
            <a:ext cx="2017800" cy="1344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4149720"/>
            <a:ext cx="244800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olice ca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5. Police cars have lots of stuff in them. They are fast and have 2 loud siren that are blue and red. They have  got 2 camera to see if people are going f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960720" cy="2127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3419640" cy="22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Jai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6. Jail is where criminals go. They get locked and have yuck food. There is no space and there rooms are tiny, the worse part is they have no privati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84720" y="37162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1636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eap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7. Weapons are guns there are tazers, tazer are an electric gun, they aim it at the criminal and it electric shots them for 5 secon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3855960"/>
            <a:ext cx="3297240" cy="1851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30240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: Hagen Pries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732720" y="3284640"/>
            <a:ext cx="2087280" cy="1920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2232000" cy="26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2:10:31Z</dcterms:created>
  <dc:creator>5e16</dc:creator>
  <dc:description/>
  <dc:language>en-US</dc:language>
  <cp:lastModifiedBy>5e16</cp:lastModifiedBy>
  <dcterms:modified xsi:type="dcterms:W3CDTF">2011-09-19T02:49:23Z</dcterms:modified>
  <cp:revision>10</cp:revision>
  <dc:subject/>
  <dc:title> Police</dc:title>
</cp:coreProperties>
</file>